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EE37-344A-4D53-86E7-48EEDF40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32B-1A94-4D4E-9DA7-2A808B8E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162EDA-4B91-4A48-9869-A17A30EA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FB36DA-362F-42E8-9BB3-DF5E9D68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92DE7D-F10A-47D2-8F9B-8DD827C9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E089AB-E003-478C-9F7C-A6810721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79743F-7823-4D9A-812C-C32A6D24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6B684F-B5C2-4F6F-BCA5-16070F84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D3AC7A-10C0-4364-90E7-C467511D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60362B-BD97-438B-AEE3-855698AF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CF1253-ED9B-484F-87AD-5DA508F3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F4BCD-6E1C-47A8-A412-4DDCCFC6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6E69-3059-4AD2-AE1E-8934E7A4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CCCAE6-D190-4889-94DE-35825E8C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91F4D-1F22-4779-B758-EBFA9481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50C701-4D9B-4689-9436-07698DE6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A3A42-06DB-42FE-8F38-E3ADFB2B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628672-273E-495E-8347-B447FDCA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4F8A78-F409-4AB6-8DA2-56D4E70D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28909F-798A-449F-8B17-F2686651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09B6A1-F274-4BAB-B54B-A29D31A8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FFF25A-C8BD-446D-B836-2CC0E6FA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088434-B228-4D24-B5C9-0DF42F0B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D266-0A69-4C41-9027-A6958FE3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59E296-ED32-49AC-95BB-F60C3868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4D08C3-26C0-47C3-9EA4-F79CE7FB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4DB3B0-874A-45E9-846E-B8C34BA1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EE200B-59FC-4CC5-8828-88076067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429FF-0F95-43C9-9A9C-3A1ADD82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B2DB1D-7DCC-4AF6-8983-17B57ED7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398FB7-5EB5-463C-8008-FB366D0C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9DC010-866B-4250-B1B6-54A10A7B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CFF327-AA9E-4BBC-B417-8D861D25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11BF61-DF15-4C2B-AE34-CD059283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3030-1C55-4C3B-8AF1-03CA155F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BE8C1-A33C-4538-8753-12897349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2AC691-DBA5-40BC-8E1D-1CD462A7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D044E0-37F7-4076-AB62-405ED408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D5D2F5-9AC4-4C4C-8F35-F6A5F61F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2DCAC5-BDE7-4B1F-9D72-D0890E90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6873C1-1D7F-4244-9FCA-0B01D55E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397027-4141-4F81-B3A6-38340B67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124480-98B0-4EFC-BE0E-EF57BDDD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1B4F87-E823-4572-9D5F-7194E24F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3A0DD9-2D14-43BF-813D-6027F082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2FDA-B8F7-4479-97F0-F817BB8D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141889-A88A-4CCF-840F-386F323C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32932E-88D4-4B36-BF6B-C6F2819B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9638C0-B410-4C6C-AB46-03011433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C5546E-D60D-4E4E-AB80-EDCF8C3E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2906B8-2533-4B19-88A9-1AA7E6A3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007F44-6EA0-462C-B4C5-71A39B96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D86AF0-A67E-4173-9371-01F24E0C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68958C-9906-4B87-8E24-9ABC3203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F84744-FCCA-426D-A121-2D09FD52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FB0F2F-86FA-4E45-BF16-7ACBEF46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1A11-9F81-45D8-9DC8-15677A9C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688AA3-0FE4-4D9D-A050-D7310E9E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BADE13-80CC-4FA6-9834-D481565B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8977F0-4A9F-4EBE-AC75-A3FCEE4E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D5C679-7C11-413F-B1CE-2FF1FDF3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5CDC18-3080-4E80-9815-690ABB42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A9BC9A-C83F-42B9-BAB1-344F72F1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16521F-C88E-45F6-8DED-17BC7230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FF150F3-CEB5-45B3-A5D9-0813F5B3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BE798D1-3792-4862-A2EE-63149CB2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2E7DF9B-F124-4E56-BDE2-69DF843F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047B-961E-4889-8D63-9051A340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24813B-416B-428B-A2E0-1F9DD7E7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CE4656-3C67-44BD-8BC7-6E057428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DFF97A-BB0C-4550-830E-36CC1599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759BC6E-69B3-441D-B704-805CA112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55F71B8-1BBB-42E8-AD3F-14A4E3A7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35E39F-5E44-4D1E-8676-3479C287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45691C-13DC-4319-9AA9-18A4681E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FD03E4-3996-460A-A4D3-A6CAD518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7BDEE59-E097-4D8E-898A-6DAAA18F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D6F7-42C0-467D-945F-3A30471B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B58F-D4C1-4B1E-9430-E27B8841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54F3-25B4-4D76-8D4D-A7379690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556-5219-4E23-9061-5F662B81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8CF6-E01A-4631-BC8D-3010540F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1467-157C-4B9B-B1F3-213332F8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0CF0-6B31-4E09-980F-8144B299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6217-E3BF-4625-A4E7-B323EA1D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CB89-EE1E-433F-A15A-D9E060EB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3EFE-C9B1-43DD-BC01-29A7A708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68A2-ED1C-4D24-96FF-C41F89CB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7247BD-DFCD-4426-8D92-E8C7ED14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AA0-46C8-4E59-AEBA-CF17CDBF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9F4EE3-E87F-4CB7-B1CF-917B278A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C82C0D-2ACD-4869-9525-DB2F3091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1AA93B-9926-466A-BF4F-C00FFFF0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D0C1B8-733E-4F67-BB84-81898999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6EA8F8-F528-4950-812B-8CCCB08E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2D0C8B-F232-4EDB-85E6-C7285AB3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6471F2-6467-46D5-9459-AE8B4673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97EBE8-B649-48FF-9BA2-E0B185F8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783411-20CE-4B81-A523-6D8E07FF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03E138-B2A8-470E-911C-58057B3C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562D-5C59-4B8F-AA7B-C4E16E20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67A868-3C58-425E-9246-2033905D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8946BF-0ACF-458A-B946-B28D622E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62AA17-D348-47DF-8AB1-FCBF30D8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D6F59F-7F3C-4B0F-93D0-CB892C24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9A0920-ED51-4414-9EC9-6A319E24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94B6BE-AA21-417C-A478-4B92CA55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373492-C97F-4478-A874-9AC30481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2AB8BE-0F3A-4363-8BA7-02D993E2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78C5EF-DC3F-443F-AE05-0923D38F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CB959F-5141-4736-8FC5-DA0DB56F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B000-3E7F-4F6D-8791-1EDBF3AC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954D78-C595-4A34-8B75-C94B7575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839A9E-5BAB-46F0-9A95-5478F92C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F76741-B276-419E-B438-13E0BB96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840986-525E-4205-9E80-0D24387A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24EB90-039A-42AF-8C7C-9A25F005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31E97B-BDC1-4476-92FE-ACBECBDF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F63F98-1BC4-4E22-B74E-76569236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6DCD9A-0130-4621-A6EF-ACBCFED6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A94E2F-645C-4A30-B1B0-6BB7F07E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55ADB4-A314-4216-B886-C497875E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1A7A-17D2-4FE6-8BC8-349E375D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2655D7-D687-43B4-A225-E864BC51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3ED16A-C449-4595-B75A-21702EEA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45E2ED-BD25-4911-949E-F9CD4E10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F78A03-A23C-4E58-9310-B53F2225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AD68EE-C2E3-40C7-A84D-BD107AB2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FF30F1-011D-48AB-87D9-E988E128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484A84-B9A1-4734-A77B-D20B860F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192EF0-DE4D-414B-B1D5-E8356859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3B5EB7-7018-495B-88FD-6340D96B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DCE3F7-7933-49EB-A9F1-6B4F2FCB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D7B0-DA7B-4069-9B45-2EDA2E28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5366B0-8FE1-469D-8230-7D660C59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306B7A-CA87-4F29-B52F-412240EA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4684C7-7FC8-47DE-992D-9FC68272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C042A9-3F47-4012-AF28-41EBD1F4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028962-BEF5-4810-AF59-106B69B7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C7598A-FC2A-486E-B07F-BBED6C82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A5D74D-74C7-4055-8BE0-957F3C9E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A7A9D7-DBEE-43CD-A88D-421617B7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7EDC94-FB59-4236-AAD3-8B0E6EBA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E0C50A-894A-4E8B-A904-DF333FFD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AEE8-3540-409D-BEB7-6B1DA5121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0C04-63FF-4691-B6F1-110578848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0F01-7F6F-461F-A433-0CCCEA17D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69B8-5AC3-4055-8934-297ADB4BD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5CDD-E18A-40AF-B0B3-2187120C6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C1C4-C28F-48CF-A833-A40B4FACC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38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ftr" idx="39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ftr" idx="40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ftr" idx="41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ftr" idx="42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8E7E-2583-4321-9E68-116E4E99C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ftr" idx="43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ftr" idx="44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 type="ftr" idx="45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ftr" idx="46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ftr" idx="47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Sherwood0495391840 copy"/>
          <p:cNvPicPr/>
          <p:nvPr/>
        </p:nvPicPr>
        <p:blipFill>
          <a:blip r:embed="rId2"/>
          <a:stretch/>
        </p:blipFill>
        <p:spPr>
          <a:xfrm>
            <a:off x="457200" y="6318360"/>
            <a:ext cx="361800" cy="46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C4F4-3B77-4224-93C6-E11FE7766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1BBA-FA5B-4C53-A5C8-FFC5CB284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203B-A2B8-4586-AADA-F425640C0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CFB5-37FD-482C-AC4E-0A5334564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7B28-8006-461C-8B2F-4AC3F6927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4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Rectangle 2"/>
          <p:cNvGrpSpPr/>
          <p:nvPr/>
        </p:nvGrpSpPr>
        <p:grpSpPr>
          <a:xfrm>
            <a:off x="249120" y="195120"/>
            <a:ext cx="8487000" cy="1835280"/>
            <a:chOff x="249120" y="195120"/>
            <a:chExt cx="8487000" cy="1835280"/>
          </a:xfrm>
        </p:grpSpPr>
        <p:pic>
          <p:nvPicPr>
            <p:cNvPr id="1047" name="Rectangle 2" descr=""/>
            <p:cNvPicPr/>
            <p:nvPr/>
          </p:nvPicPr>
          <p:blipFill>
            <a:blip r:embed="rId1"/>
            <a:stretch/>
          </p:blipFill>
          <p:spPr>
            <a:xfrm>
              <a:off x="249120" y="195120"/>
              <a:ext cx="848700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8" name=""/>
            <p:cNvSpPr/>
            <p:nvPr/>
          </p:nvSpPr>
          <p:spPr>
            <a:xfrm>
              <a:off x="609480" y="304920"/>
              <a:ext cx="77724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00"/>
                  </a:solidFill>
                  <a:latin typeface="Arial"/>
                </a:rPr>
                <a:t>OVARIAN HORMONE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9" name="Picture 8" descr=""/>
          <p:cNvPicPr/>
          <p:nvPr/>
        </p:nvPicPr>
        <p:blipFill>
          <a:blip r:embed="rId2"/>
          <a:stretch/>
        </p:blipFill>
        <p:spPr>
          <a:xfrm>
            <a:off x="1447920" y="2209680"/>
            <a:ext cx="6095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1" name="Rectangle 2"/>
          <p:cNvGrpSpPr/>
          <p:nvPr/>
        </p:nvGrpSpPr>
        <p:grpSpPr>
          <a:xfrm>
            <a:off x="871560" y="-23760"/>
            <a:ext cx="7254720" cy="1444680"/>
            <a:chOff x="871560" y="-23760"/>
            <a:chExt cx="7254720" cy="1444680"/>
          </a:xfrm>
        </p:grpSpPr>
        <p:pic>
          <p:nvPicPr>
            <p:cNvPr id="1082" name="Rectangle 2" descr=""/>
            <p:cNvPicPr/>
            <p:nvPr/>
          </p:nvPicPr>
          <p:blipFill>
            <a:blip r:embed="rId1"/>
            <a:stretch/>
          </p:blipFill>
          <p:spPr>
            <a:xfrm>
              <a:off x="871560" y="-23760"/>
              <a:ext cx="725472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3" name=""/>
            <p:cNvSpPr/>
            <p:nvPr/>
          </p:nvSpPr>
          <p:spPr>
            <a:xfrm>
              <a:off x="990720" y="152280"/>
              <a:ext cx="701028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400"/>
              </a:br>
              <a:r>
                <a:rPr b="1" lang="en-US" sz="3600" spc="-1" strike="noStrike" u="sng">
                  <a:solidFill>
                    <a:srgbClr val="ffffcc"/>
                  </a:solidFill>
                  <a:uFillTx/>
                  <a:latin typeface="Times New Roman"/>
                </a:rPr>
                <a:t> </a:t>
              </a:r>
              <a:br>
                <a:rPr sz="3600"/>
              </a:br>
              <a:r>
                <a:rPr b="1" lang="en-US" sz="3600" spc="-1" strike="noStrike">
                  <a:solidFill>
                    <a:srgbClr val="ffff00"/>
                  </a:solidFill>
                  <a:latin typeface="Arial Black"/>
                  <a:ea typeface="Aharoni"/>
                </a:rPr>
                <a:t>2- PROGESTERONE</a:t>
              </a:r>
              <a:r>
                <a:rPr b="1" i="1" lang="en-US" sz="3600" spc="-1" strike="noStrike">
                  <a:solidFill>
                    <a:srgbClr val="ffff00"/>
                  </a:solidFill>
                  <a:latin typeface="Arial Black"/>
                  <a:ea typeface="Aharoni"/>
                </a:rPr>
                <a:t> </a:t>
              </a:r>
              <a:br>
                <a:rPr sz="3600"/>
              </a:b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(Pro = before &amp; gestation = pregnancy)</a:t>
              </a:r>
              <a:br>
                <a:rPr sz="2400"/>
              </a:br>
              <a:br>
                <a:rPr sz="40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Rectangle 2"/>
          <p:cNvSpPr/>
          <p:nvPr/>
        </p:nvSpPr>
        <p:spPr>
          <a:xfrm>
            <a:off x="304920" y="1251360"/>
            <a:ext cx="8534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 Black"/>
              <a:buChar char="•"/>
              <a:tabLst>
                <a:tab algn="l" pos="22860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creted fro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2860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orpus luteum, ovary, Placenta &amp; suprarenal cort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 Black"/>
              <a:buChar char="•"/>
              <a:tabLst>
                <a:tab algn="l" pos="22860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ynthesis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2860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rogesterone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teroid horm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erived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holesterol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Transpor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2860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* 2% of plasma estrogen is fre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2860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* Remaining: bound to albumin &amp; globul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 Black"/>
              <a:buChar char="•"/>
              <a:tabLst>
                <a:tab algn="l" pos="22860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M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tabolism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2860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 liver, progesterone is degraded in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regnendi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which conjugates to glucuronic acid and excreted in ur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5" name="Rectangle 2"/>
          <p:cNvGrpSpPr/>
          <p:nvPr/>
        </p:nvGrpSpPr>
        <p:grpSpPr>
          <a:xfrm>
            <a:off x="871560" y="-60480"/>
            <a:ext cx="7254720" cy="1444680"/>
            <a:chOff x="871560" y="-60480"/>
            <a:chExt cx="7254720" cy="1444680"/>
          </a:xfrm>
        </p:grpSpPr>
        <p:pic>
          <p:nvPicPr>
            <p:cNvPr id="1086" name="Rectangle 2" descr=""/>
            <p:cNvPicPr/>
            <p:nvPr/>
          </p:nvPicPr>
          <p:blipFill>
            <a:blip r:embed="rId1"/>
            <a:stretch/>
          </p:blipFill>
          <p:spPr>
            <a:xfrm>
              <a:off x="871560" y="-60480"/>
              <a:ext cx="725472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7" name=""/>
            <p:cNvSpPr/>
            <p:nvPr/>
          </p:nvSpPr>
          <p:spPr>
            <a:xfrm>
              <a:off x="990720" y="152280"/>
              <a:ext cx="70102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400"/>
              </a:br>
              <a:r>
                <a:rPr b="1" lang="en-US" sz="3600" spc="-1" strike="noStrike" u="sng">
                  <a:solidFill>
                    <a:srgbClr val="ffffcc"/>
                  </a:solidFill>
                  <a:uFillTx/>
                  <a:latin typeface="Times New Roman"/>
                </a:rPr>
                <a:t> </a:t>
              </a:r>
              <a:br>
                <a:rPr sz="3600"/>
              </a:br>
              <a:r>
                <a:rPr b="1" lang="en-US" sz="3600" spc="-1" strike="noStrike">
                  <a:solidFill>
                    <a:srgbClr val="ffff00"/>
                  </a:solidFill>
                  <a:latin typeface="Arial Black"/>
                  <a:ea typeface="Aharoni"/>
                </a:rPr>
                <a:t>2- PROGESTERONE</a:t>
              </a:r>
              <a:r>
                <a:rPr b="1" i="1" lang="en-US" sz="3600" spc="-1" strike="noStrike">
                  <a:solidFill>
                    <a:srgbClr val="ffff00"/>
                  </a:solidFill>
                  <a:latin typeface="Arial Black"/>
                  <a:ea typeface="Aharoni"/>
                </a:rPr>
                <a:t> </a:t>
              </a:r>
              <a:br>
                <a:rPr sz="3600"/>
              </a:b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(Pro = before &amp; gestation = pregnancy)</a:t>
              </a:r>
              <a:br>
                <a:rPr sz="2400"/>
              </a:br>
              <a:br>
                <a:rPr sz="40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8" name="Rectangle 1"/>
          <p:cNvSpPr/>
          <p:nvPr/>
        </p:nvSpPr>
        <p:spPr>
          <a:xfrm>
            <a:off x="304920" y="1093320"/>
            <a:ext cx="8534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Mechanism of Ac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teroi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horm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A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1- On uterus: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ponsible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=luteal) phase of endometr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b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It changes stroma cells of endometrium in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ecidual cells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(= formation of placenta)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Essential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mplan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fertilized ov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Hyperpolarization,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excitability of myometrium,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spontaneous pacemaker potential an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sensitivity to oxytoci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uterine relax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to maintain pregnanc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hibition of ovu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(as in pregnancy amenorrhe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vi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pituitary gonadotropins secretion.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9" name="Rectangle 2"/>
          <p:cNvGrpSpPr/>
          <p:nvPr/>
        </p:nvGrpSpPr>
        <p:grpSpPr>
          <a:xfrm>
            <a:off x="871560" y="-60480"/>
            <a:ext cx="7254720" cy="1444680"/>
            <a:chOff x="871560" y="-60480"/>
            <a:chExt cx="7254720" cy="1444680"/>
          </a:xfrm>
        </p:grpSpPr>
        <p:pic>
          <p:nvPicPr>
            <p:cNvPr id="1090" name="Rectangle 2" descr=""/>
            <p:cNvPicPr/>
            <p:nvPr/>
          </p:nvPicPr>
          <p:blipFill>
            <a:blip r:embed="rId1"/>
            <a:stretch/>
          </p:blipFill>
          <p:spPr>
            <a:xfrm>
              <a:off x="871560" y="-60480"/>
              <a:ext cx="725472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1" name=""/>
            <p:cNvSpPr/>
            <p:nvPr/>
          </p:nvSpPr>
          <p:spPr>
            <a:xfrm>
              <a:off x="990720" y="152280"/>
              <a:ext cx="70102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400"/>
              </a:br>
              <a:r>
                <a:rPr b="1" lang="en-US" sz="3600" spc="-1" strike="noStrike" u="sng">
                  <a:solidFill>
                    <a:srgbClr val="ffffcc"/>
                  </a:solidFill>
                  <a:uFillTx/>
                  <a:latin typeface="Times New Roman"/>
                </a:rPr>
                <a:t> </a:t>
              </a:r>
              <a:br>
                <a:rPr sz="3600"/>
              </a:br>
              <a:r>
                <a:rPr b="1" lang="en-US" sz="3600" spc="-1" strike="noStrike">
                  <a:solidFill>
                    <a:srgbClr val="ffff00"/>
                  </a:solidFill>
                  <a:latin typeface="Arial Black"/>
                  <a:ea typeface="Aharoni"/>
                </a:rPr>
                <a:t>2- PROGESTERONE</a:t>
              </a:r>
              <a:r>
                <a:rPr b="1" i="1" lang="en-US" sz="3600" spc="-1" strike="noStrike">
                  <a:solidFill>
                    <a:srgbClr val="ffff00"/>
                  </a:solidFill>
                  <a:latin typeface="Arial Black"/>
                  <a:ea typeface="Aharoni"/>
                </a:rPr>
                <a:t> </a:t>
              </a:r>
              <a:br>
                <a:rPr sz="3600"/>
              </a:b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(Pro = before &amp; gestation = pregnancy)</a:t>
              </a:r>
              <a:br>
                <a:rPr sz="2400"/>
              </a:br>
              <a:br>
                <a:rPr sz="40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Rectangle 1"/>
          <p:cNvSpPr/>
          <p:nvPr/>
        </p:nvSpPr>
        <p:spPr>
          <a:xfrm>
            <a:off x="228600" y="966600"/>
            <a:ext cx="8534520" cy="58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2- On mammary gland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Growth of secretory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Alveoli &amp; lobul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3- On body temperatur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Basal body temperatu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by direct effect on hypothalamus or permissive action on thyroid horm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4- Metabolic effects: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01600" algn="r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large do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triures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blocking aldostrone ac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01600" algn="r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timulates respir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nsitivity of respiratory center to CO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5- Behavioral effects: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01600" algn="r">
              <a:lnSpc>
                <a:spcPct val="13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tite 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ight g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pregnanc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01600" algn="r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responsible for onset of maternal behavi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198360" y="2352600"/>
            <a:ext cx="8686800" cy="278136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2" descr="https://livingwellnessblog.files.wordpress.com/2013/10/progesterone-lining.png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7" name="" descr=""/>
          <p:cNvPicPr/>
          <p:nvPr/>
        </p:nvPicPr>
        <p:blipFill>
          <a:blip r:embed="rId1"/>
          <a:stretch/>
        </p:blipFill>
        <p:spPr>
          <a:xfrm>
            <a:off x="198360" y="2352600"/>
            <a:ext cx="8686800" cy="278136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2" descr="http://natural-fertility-info.com/wp-content/uploads/mestrual1.jpg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Picture 2" descr="http://nongae.gsnu.ac.kr/~cspark/teaching/images/fig_4_5.gif"/>
          <p:cNvPicPr/>
          <p:nvPr/>
        </p:nvPicPr>
        <p:blipFill>
          <a:blip r:embed="rId1"/>
          <a:srcRect l="1812" t="0" r="0" b="3018"/>
          <a:stretch/>
        </p:blipFill>
        <p:spPr>
          <a:xfrm>
            <a:off x="152280" y="152280"/>
            <a:ext cx="876312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Picture 2" descr="2014-12-05 16.17.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1" name="Picture 1" descr="11146200_962857803745216_6568834797423836935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2" name="Rectangle 1"/>
          <p:cNvSpPr/>
          <p:nvPr/>
        </p:nvSpPr>
        <p:spPr>
          <a:xfrm>
            <a:off x="228600" y="72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Tahoma"/>
              </a:rPr>
              <a:t>العلم نور</a:t>
            </a:r>
            <a:r>
              <a:rPr b="1" i="1" lang="ar-SA" sz="3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Tahoma"/>
              </a:rPr>
              <a:t>ونور الله لا يهدى لعاص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Rectangle 2"/>
          <p:cNvGrpSpPr/>
          <p:nvPr/>
        </p:nvGrpSpPr>
        <p:grpSpPr>
          <a:xfrm>
            <a:off x="1481040" y="-36360"/>
            <a:ext cx="6340680" cy="1315800"/>
            <a:chOff x="1481040" y="-36360"/>
            <a:chExt cx="6340680" cy="1315800"/>
          </a:xfrm>
        </p:grpSpPr>
        <p:pic>
          <p:nvPicPr>
            <p:cNvPr id="1051" name="Rectangle 2" descr=""/>
            <p:cNvPicPr/>
            <p:nvPr/>
          </p:nvPicPr>
          <p:blipFill>
            <a:blip r:embed="rId1"/>
            <a:stretch/>
          </p:blipFill>
          <p:spPr>
            <a:xfrm>
              <a:off x="1481040" y="-36360"/>
              <a:ext cx="634068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2" name=""/>
            <p:cNvSpPr/>
            <p:nvPr/>
          </p:nvSpPr>
          <p:spPr>
            <a:xfrm>
              <a:off x="1600200" y="152280"/>
              <a:ext cx="6095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Lecture Objectiv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Enumerate ovarian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Explain the sources of estr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Describe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mechanism of action of ovarian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the action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estr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List 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metabolic effects of estr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Name the sources of proge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Describe the actions of proge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Enumerate the hormones secreted by plac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4" name="Rectangle 2"/>
          <p:cNvGrpSpPr/>
          <p:nvPr/>
        </p:nvGrpSpPr>
        <p:grpSpPr>
          <a:xfrm>
            <a:off x="1096920" y="6480"/>
            <a:ext cx="6950160" cy="2023920"/>
            <a:chOff x="1096920" y="6480"/>
            <a:chExt cx="6950160" cy="2023920"/>
          </a:xfrm>
        </p:grpSpPr>
        <p:pic>
          <p:nvPicPr>
            <p:cNvPr id="1055" name="Rectangle 2" descr=""/>
            <p:cNvPicPr/>
            <p:nvPr/>
          </p:nvPicPr>
          <p:blipFill>
            <a:blip r:embed="rId1"/>
            <a:stretch/>
          </p:blipFill>
          <p:spPr>
            <a:xfrm>
              <a:off x="1096920" y="6480"/>
              <a:ext cx="695016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6" name=""/>
            <p:cNvSpPr/>
            <p:nvPr/>
          </p:nvSpPr>
          <p:spPr>
            <a:xfrm>
              <a:off x="1219320" y="228600"/>
              <a:ext cx="670536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r>
                <a:rPr b="1" lang="en-US" sz="4400" spc="-1" strike="noStrike">
                  <a:solidFill>
                    <a:srgbClr val="ffff00"/>
                  </a:solidFill>
                  <a:latin typeface="Aharoni"/>
                  <a:ea typeface="Aharoni"/>
                </a:rPr>
                <a:t>OVARIAN HORMONES</a:t>
              </a:r>
              <a:br>
                <a:rPr sz="4400"/>
              </a:br>
              <a:r>
                <a:rPr b="1" lang="en-US" sz="4400" spc="-1" strike="noStrike">
                  <a:solidFill>
                    <a:srgbClr val="ffff00"/>
                  </a:solidFill>
                  <a:latin typeface="Aharoni"/>
                  <a:ea typeface="Aharoni"/>
                </a:rPr>
                <a:t>1- ESTROGENS</a:t>
              </a:r>
              <a:br>
                <a:rPr sz="3200"/>
              </a:b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7" name="Rectangle 6"/>
          <p:cNvSpPr/>
          <p:nvPr/>
        </p:nvSpPr>
        <p:spPr>
          <a:xfrm>
            <a:off x="380880" y="1775520"/>
            <a:ext cx="8458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ecreted from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1- Ovari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by theca interna, granulosa cells and corpus lute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2- Placenta.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3- Suprarenal cortex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ype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steroid hormones of 3 types 17-β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estradio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(most potent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estrone &amp; estri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ransport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2% of plasma estrogen is free &amp; Remaining is bound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globul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main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Rectangle 2"/>
          <p:cNvGrpSpPr/>
          <p:nvPr/>
        </p:nvGrpSpPr>
        <p:grpSpPr>
          <a:xfrm>
            <a:off x="1785960" y="66600"/>
            <a:ext cx="5730840" cy="1414440"/>
            <a:chOff x="1785960" y="66600"/>
            <a:chExt cx="5730840" cy="1414440"/>
          </a:xfrm>
        </p:grpSpPr>
        <p:pic>
          <p:nvPicPr>
            <p:cNvPr id="1059" name="Rectangle 2" descr=""/>
            <p:cNvPicPr/>
            <p:nvPr/>
          </p:nvPicPr>
          <p:blipFill>
            <a:blip r:embed="rId1"/>
            <a:stretch/>
          </p:blipFill>
          <p:spPr>
            <a:xfrm>
              <a:off x="1785960" y="66600"/>
              <a:ext cx="57308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0" name=""/>
            <p:cNvSpPr/>
            <p:nvPr/>
          </p:nvSpPr>
          <p:spPr>
            <a:xfrm>
              <a:off x="1905120" y="228600"/>
              <a:ext cx="54864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400"/>
              </a:br>
              <a:r>
                <a:rPr b="1" lang="en-US" sz="4400" spc="-1" strike="noStrike">
                  <a:solidFill>
                    <a:srgbClr val="ffff00"/>
                  </a:solidFill>
                  <a:latin typeface="Aharoni"/>
                  <a:ea typeface="Aharoni"/>
                </a:rPr>
                <a:t>ESTROGENS</a:t>
              </a:r>
              <a:br>
                <a:rPr sz="3200"/>
              </a:b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1" name="Rectangle 1"/>
          <p:cNvSpPr/>
          <p:nvPr/>
        </p:nvSpPr>
        <p:spPr>
          <a:xfrm>
            <a:off x="228600" y="845640"/>
            <a:ext cx="853452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strogen secretion has 2 peaks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1- At time of ovulation.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2- Mid-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uteal phase (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ess than preovulatory peak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 Black"/>
              <a:buChar char="•"/>
              <a:tabLst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M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chanism of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A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c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A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steroid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, estrogen combines with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cytoplasmic recep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complex which enter nucleu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mRNA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new protein formation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its act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 Black"/>
              <a:buChar char="•"/>
              <a:tabLst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A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c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(A) In embryonic life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full development of uterus and vagin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(B) Pre-pubertal effect: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Lo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Estrogens ha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strong -ve feedbac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effect on FSH &amp; LH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Rectangle 2"/>
          <p:cNvGrpSpPr/>
          <p:nvPr/>
        </p:nvGrpSpPr>
        <p:grpSpPr>
          <a:xfrm>
            <a:off x="1785960" y="103320"/>
            <a:ext cx="5730840" cy="1420560"/>
            <a:chOff x="1785960" y="103320"/>
            <a:chExt cx="5730840" cy="1420560"/>
          </a:xfrm>
        </p:grpSpPr>
        <p:pic>
          <p:nvPicPr>
            <p:cNvPr id="1063" name="Rectangle 2" descr=""/>
            <p:cNvPicPr/>
            <p:nvPr/>
          </p:nvPicPr>
          <p:blipFill>
            <a:blip r:embed="rId1"/>
            <a:stretch/>
          </p:blipFill>
          <p:spPr>
            <a:xfrm>
              <a:off x="1785960" y="103320"/>
              <a:ext cx="573084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1905120" y="228600"/>
              <a:ext cx="54864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400"/>
              </a:br>
              <a:r>
                <a:rPr b="1" lang="en-US" sz="4400" spc="-1" strike="noStrike">
                  <a:solidFill>
                    <a:srgbClr val="ffff00"/>
                  </a:solidFill>
                  <a:latin typeface="Aharoni"/>
                  <a:ea typeface="Aharoni"/>
                </a:rPr>
                <a:t>ESTROGENS</a:t>
              </a:r>
              <a:br>
                <a:rPr sz="3200"/>
              </a:b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Rectangle 1"/>
          <p:cNvSpPr/>
          <p:nvPr/>
        </p:nvSpPr>
        <p:spPr>
          <a:xfrm>
            <a:off x="304920" y="108900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r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(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C) At puberty (in non-pregnant adult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*On 1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 Black"/>
                <a:ea typeface="SimSun"/>
              </a:rPr>
              <a:t>r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 sex organs (Ovaries)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- Growth &amp; maturation of ovarian foll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- Essential for ovulation &amp; corpus luteum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*On 2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 Black"/>
                <a:ea typeface="SimSun"/>
              </a:rPr>
              <a:t>r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sex organs: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- Estrog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stimul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growth of sex orga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(uterus, tubes, vagina and external organ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exce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clitori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6" name="Rectangle 2"/>
          <p:cNvGrpSpPr/>
          <p:nvPr/>
        </p:nvGrpSpPr>
        <p:grpSpPr>
          <a:xfrm>
            <a:off x="2852640" y="6480"/>
            <a:ext cx="3975120" cy="1315800"/>
            <a:chOff x="2852640" y="6480"/>
            <a:chExt cx="3975120" cy="1315800"/>
          </a:xfrm>
        </p:grpSpPr>
        <p:pic>
          <p:nvPicPr>
            <p:cNvPr id="1067" name="Rectangle 2" descr=""/>
            <p:cNvPicPr/>
            <p:nvPr/>
          </p:nvPicPr>
          <p:blipFill>
            <a:blip r:embed="rId1"/>
            <a:stretch/>
          </p:blipFill>
          <p:spPr>
            <a:xfrm>
              <a:off x="2852640" y="6480"/>
              <a:ext cx="397512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2971800" y="152280"/>
              <a:ext cx="3733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400"/>
              </a:br>
              <a:r>
                <a:rPr b="1" lang="en-US" sz="4000" spc="-1" strike="noStrike">
                  <a:solidFill>
                    <a:srgbClr val="ffff00"/>
                  </a:solidFill>
                  <a:latin typeface="Aharoni"/>
                  <a:ea typeface="Aharoni"/>
                </a:rPr>
                <a:t>ESTROGENS</a:t>
              </a:r>
              <a:br>
                <a:rPr sz="36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9" name="Rectangle 1"/>
          <p:cNvSpPr/>
          <p:nvPr/>
        </p:nvSpPr>
        <p:spPr>
          <a:xfrm>
            <a:off x="228600" y="717120"/>
            <a:ext cx="8686800" cy="63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1- On uter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strogens stimulat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dometri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if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yometri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ing pregnanc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owth of smooth muscle,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lood flow,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tinomyosin content an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nsitivity to action of oxytoc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Times New Roman"/>
              <a:buChar char="-"/>
              <a:tabLst>
                <a:tab algn="r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lity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allopian tub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2- On cervix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Times New Roman"/>
              <a:buChar char="-"/>
              <a:tabLst>
                <a:tab algn="r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stroge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in, watery and alkaline muc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secretion (promotes survival of sperm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- On vagin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Hyperemia of vaginal epithelium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ycog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osition &amp;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ctic a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cretion as a protection against infe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Rectangle 2"/>
          <p:cNvGrpSpPr/>
          <p:nvPr/>
        </p:nvGrpSpPr>
        <p:grpSpPr>
          <a:xfrm>
            <a:off x="2852640" y="-12600"/>
            <a:ext cx="3975120" cy="1311120"/>
            <a:chOff x="2852640" y="-12600"/>
            <a:chExt cx="3975120" cy="1311120"/>
          </a:xfrm>
        </p:grpSpPr>
        <p:pic>
          <p:nvPicPr>
            <p:cNvPr id="1071" name="Rectangle 2" descr=""/>
            <p:cNvPicPr/>
            <p:nvPr/>
          </p:nvPicPr>
          <p:blipFill>
            <a:blip r:embed="rId1"/>
            <a:stretch/>
          </p:blipFill>
          <p:spPr>
            <a:xfrm>
              <a:off x="2852640" y="-12600"/>
              <a:ext cx="397512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"/>
            <p:cNvSpPr/>
            <p:nvPr/>
          </p:nvSpPr>
          <p:spPr>
            <a:xfrm>
              <a:off x="2971800" y="152280"/>
              <a:ext cx="3733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400"/>
              </a:br>
              <a:r>
                <a:rPr b="1" lang="en-US" sz="4000" spc="-1" strike="noStrike">
                  <a:solidFill>
                    <a:srgbClr val="ffff00"/>
                  </a:solidFill>
                  <a:latin typeface="Aharoni"/>
                  <a:ea typeface="Aharoni"/>
                </a:rPr>
                <a:t>ESTROGENS</a:t>
              </a:r>
              <a:br>
                <a:rPr sz="40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Rectangle 1"/>
          <p:cNvSpPr/>
          <p:nvPr/>
        </p:nvSpPr>
        <p:spPr>
          <a:xfrm>
            <a:off x="228600" y="1071360"/>
            <a:ext cx="861048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4507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*On female 2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 Black"/>
                <a:ea typeface="SimSun"/>
              </a:rPr>
              <a:t>ry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sex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4507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1- On mammary gland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ment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u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&amp; nipple and breast enlarg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4507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Blood f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&amp; stroma of breast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reolar pigmen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uring pregna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4507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2- On body configuration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emin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body (wide pelvis &amp; narrow shoulde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eminin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istribution of f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4507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3- On voice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strogens don’t stimulate growth of vocal cord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high pitched vo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4507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4- On hair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*Less body hair &amp; more scalp ha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4507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*Pubic hair has a straight upper b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Rectangle 2"/>
          <p:cNvGrpSpPr/>
          <p:nvPr/>
        </p:nvGrpSpPr>
        <p:grpSpPr>
          <a:xfrm>
            <a:off x="2852640" y="-12600"/>
            <a:ext cx="3975120" cy="1311120"/>
            <a:chOff x="2852640" y="-12600"/>
            <a:chExt cx="3975120" cy="1311120"/>
          </a:xfrm>
        </p:grpSpPr>
        <p:pic>
          <p:nvPicPr>
            <p:cNvPr id="1075" name="Rectangle 2" descr=""/>
            <p:cNvPicPr/>
            <p:nvPr/>
          </p:nvPicPr>
          <p:blipFill>
            <a:blip r:embed="rId1"/>
            <a:stretch/>
          </p:blipFill>
          <p:spPr>
            <a:xfrm>
              <a:off x="2852640" y="-12600"/>
              <a:ext cx="397512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"/>
            <p:cNvSpPr/>
            <p:nvPr/>
          </p:nvSpPr>
          <p:spPr>
            <a:xfrm>
              <a:off x="2971800" y="152280"/>
              <a:ext cx="3733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400"/>
              </a:br>
              <a:r>
                <a:rPr b="1" lang="en-US" sz="4000" spc="-1" strike="noStrike">
                  <a:solidFill>
                    <a:srgbClr val="ffff00"/>
                  </a:solidFill>
                  <a:latin typeface="Aharoni"/>
                  <a:ea typeface="Aharoni"/>
                </a:rPr>
                <a:t>ESTROGENS</a:t>
              </a:r>
              <a:br>
                <a:rPr sz="40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7" name="Rectangle 1"/>
          <p:cNvSpPr/>
          <p:nvPr/>
        </p:nvSpPr>
        <p:spPr>
          <a:xfrm>
            <a:off x="304920" y="991440"/>
            <a:ext cx="853416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Metabolic effects of estroge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il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  <a:ea typeface="SimSu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nabo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eff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  <a:ea typeface="SimSu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tention of Ca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+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&amp; PO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→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aturation of ossification centers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union of epiphy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rapidl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shorter fe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  <a:ea typeface="SimSu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t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Na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&amp; H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→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Pre-menstrual 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  <a:ea typeface="SimSu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ainst atherosclero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&amp; coronary disease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ue t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Plasma cholesterol lowering eff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. However, synthetic estrogen doesn't protect from coronary diseases because it alters hepatic production of clotting factors and promote thromb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1"/>
          <a:stretch/>
        </p:blipFill>
        <p:spPr>
          <a:xfrm>
            <a:off x="198360" y="2352600"/>
            <a:ext cx="8686800" cy="278136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2" descr="http://faculty.southwest.tn.edu/rburkett/repro_24.jpg"/>
          <p:cNvPicPr/>
          <p:nvPr/>
        </p:nvPicPr>
        <p:blipFill>
          <a:blip r:embed="rId2"/>
          <a:srcRect l="0" t="2191" r="0" b="0"/>
          <a:stretch/>
        </p:blipFill>
        <p:spPr>
          <a:xfrm>
            <a:off x="152280" y="291960"/>
            <a:ext cx="8839440" cy="62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20:15:10Z</dcterms:created>
  <dc:creator>User</dc:creator>
  <dc:description/>
  <dc:language>en-US</dc:language>
  <cp:lastModifiedBy>Hani Mohammed</cp:lastModifiedBy>
  <dcterms:modified xsi:type="dcterms:W3CDTF">2016-03-30T06:26:49Z</dcterms:modified>
  <cp:revision>84</cp:revision>
  <dc:subject/>
  <dc:title>Slide 1</dc:title>
</cp:coreProperties>
</file>